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36.png" ContentType="image/png"/>
  <Override PartName="/ppt/media/image40.png" ContentType="image/png"/>
  <Override PartName="/ppt/media/image46.png" ContentType="image/png"/>
  <Override PartName="/ppt/media/image31.jpeg" ContentType="image/jpeg"/>
  <Override PartName="/ppt/media/image38.gif" ContentType="image/gif"/>
  <Override PartName="/ppt/media/image49.jpeg" ContentType="image/jpeg"/>
  <Override PartName="/ppt/media/image47.gif" ContentType="image/gif"/>
  <Override PartName="/ppt/media/image50.png" ContentType="image/png"/>
  <Override PartName="/ppt/media/image30.png" ContentType="image/png"/>
  <Override PartName="/ppt/media/image28.jpeg" ContentType="image/jpeg"/>
  <Override PartName="/ppt/media/image51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41.gif" ContentType="image/gif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08E85-7C80-4A80-8D26-F2C373305E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C67E1-A6A0-4933-B05A-8AEFF4DE2C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4E9E9-736E-4472-9900-0325817735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3D147-355C-4DA7-BBBC-BAE90AACDD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C8626-75F8-4F67-A15E-61B966A271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A6FDE-1B5D-4038-82F9-C1B1C908BA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80238-AF1E-4A13-9248-3A8DE5FEE6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8931C-730E-4817-9218-4BE6D4373D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10526-DA5C-4987-AAB5-65B9ACAD8D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75421-03D9-4638-B18C-5362EA7076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D3C54-45EE-4BC5-9155-5F734A3F5F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2D3D9-65B8-43C1-A4E8-2F31C103E7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 Гальцева Ольга Николаевна. Учитель МОУ Аннинская СОШ №1 п.г.т. Ан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D4816-295C-4825-B03F-5729B59077C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381C1-6985-40C2-B9BE-36BFF9C0E08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 слайд из презентации Баженова А.А. «Ионы и ионная связь» в исправленном вид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lekseibazhenov.narod.ru/proektor8che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DE8F0-8F76-49EB-8E82-36E7757C0D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CECAE-879D-4F79-AE8C-3D0AB52AF1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98E77-FCDB-4E03-B76F-C2BF2AA398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E3FFA-186F-4197-8584-762D50DD5F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23B65-B6B0-4C9B-91FA-F83D31950A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C41BF-67B3-46BD-B07E-75E311618A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так, при взаимодействии двух атомов водорода их электронные облака перекрываются. Давайте расшифруем то, что у нас получилос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ый рисун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он обозначает? Атом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его знак? 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электронов у атома водорода на последнем слое?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ует 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Такой же ато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образуется? соединение из двух атомов водород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находится между атомами? 2 электрон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ый атом водорода думает, что эти электроны принадлежат ем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 у него 2 электрона на слое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. Второй электрон думает, что …..Щ……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очему оба атома довольны и система получается устойчивой? 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так, образовалась Щ общая электронная пара – это одна химическая связ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 формула, в которой показаны общие электронные пары называется электронной формулой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 составленная нами схема называется электронной схемой образования молеку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озьмите из конверта рисунок, обведите электронную формулу и таким же цветом подчеркните название, аналогично со схе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 1907 году русский химик Николай Александрович Морозов предположил,что химическая связь между атомами может получиться за счёт образования электронных пар. Это подтвердил в 1916 году американский физикохимик Гилберт-Ньютон Льюис. Электронные формулы ещё называют формулами Лью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D9C55-C65A-4D38-A8CC-CF1352B816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4E3-949A-47E0-BB9F-9065EBEE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1A7-8B85-41CF-84D9-33B644AE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0A7-7D77-4208-8DFB-EE147980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2F3-12EC-4E83-830A-E2B5487F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3AB6-90E7-4F90-8617-C2AC7EE0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057A-8044-4CE8-927C-F769C7D0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A7E7-76A6-44DD-BBC9-3F6F3340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FCC8-AC02-40FB-816B-BEF6A254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6675-6FC0-4580-BFA9-D7F83DD0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D671-2246-4B86-950F-A57853F2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A250-B964-4168-BC1F-3F45D661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512-C257-4AED-8874-094DE756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572F-1CC9-4C57-9FBD-67A5EBB2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0D95-F0E4-44BC-9FB8-05801DE9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2C27-0E53-4C3B-BC2D-E0EE243E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59B4-900E-4E33-8654-B8B991A6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A505-D1AA-4A18-8DB4-D6382000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819-4876-457F-9505-EC32CC29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4BF-57B7-4580-881F-8AC0AF3D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17D-3A36-4B90-8524-C1FEE822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262-892B-4EF1-AA81-4FDBCB36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5D9-D0F5-4C3B-B491-23A7B03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46C-5CE7-4917-AD01-8179F079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474-C472-47C8-A406-15D91F0A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D7F6D8-84B2-4660-BB99-CEC0E648DFF2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09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77F923-C477-4A29-8F9B-5AFAA94ECCA5}" type="slidenum"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228600" y="2889360"/>
            <a:ext cx="8608680" cy="199800"/>
            <a:chOff x="228600" y="2889360"/>
            <a:chExt cx="8608680" cy="199800"/>
          </a:xfrm>
        </p:grpSpPr>
        <p:sp>
          <p:nvSpPr>
            <p:cNvPr id="50" name="Rectangle 6"/>
            <p:cNvSpPr/>
            <p:nvPr/>
          </p:nvSpPr>
          <p:spPr>
            <a:xfrm>
              <a:off x="228600" y="2889360"/>
              <a:ext cx="2869560" cy="1998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3098160" y="2889360"/>
              <a:ext cx="2869560" cy="19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5968080" y="2889360"/>
              <a:ext cx="2869200" cy="1998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360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600" spc="-1" strike="noStrike">
                <a:solidFill>
                  <a:srgbClr val="ffff00"/>
                </a:solidFill>
                <a:latin typeface="Garamond"/>
              </a:rPr>
              <a:t>Химическая связь</a:t>
            </a:r>
            <a:r>
              <a:rPr b="1" lang="ru-RU" sz="9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9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79280" y="3933720"/>
            <a:ext cx="3961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3. По способу перекрывания электронных орбиталей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20448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σ (сигма-связь)-область перекрывания электронных орбиталей находится на прямой, связывающей ядра атом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2540160" cy="151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3995640" y="3716280"/>
            <a:ext cx="4038840" cy="71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3"/>
          <a:stretch/>
        </p:blipFill>
        <p:spPr>
          <a:xfrm>
            <a:off x="4859280" y="4653000"/>
            <a:ext cx="3175200" cy="170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4"/>
          <a:stretch/>
        </p:blipFill>
        <p:spPr>
          <a:xfrm>
            <a:off x="395280" y="5229360"/>
            <a:ext cx="4038480" cy="880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348000" y="45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-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7308720" y="4365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 -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492360" y="6165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-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7272360" y="609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d -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3. По способу перекрывания электронных орбитале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1508040" cy="2736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5079960" y="1843200"/>
            <a:ext cx="3175200" cy="1701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89160"/>
          </a:xfrm>
          <a:prstGeom prst="rect">
            <a:avLst/>
          </a:prstGeom>
          <a:solidFill>
            <a:srgbClr val="f8dd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π (пи-связь)-область перекрывания электронных орбиталей лежит вне прямой, связывающей ядра атом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132000" y="364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 -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084720" y="3645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-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666600"/>
                </a:solidFill>
                <a:latin typeface="Garamond"/>
              </a:rPr>
              <a:t>4.</a:t>
            </a: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666600"/>
                </a:solidFill>
                <a:latin typeface="Garamond"/>
              </a:rPr>
              <a:t>По числу общих электронных пар, связывающих атомы, т.е. по кратност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468360" y="3789360"/>
            <a:ext cx="7777080" cy="901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7775640" cy="668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6624720" cy="8334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50920" y="1557360"/>
            <a:ext cx="8893080" cy="6426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Одинарные  Н-Н ; H-Cl, H-O-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50920" y="2997360"/>
            <a:ext cx="8893080" cy="71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Двойные  СО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, С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50920" y="5013360"/>
            <a:ext cx="8893080" cy="648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Тройные 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, С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Типы кристаллических решеток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959280" cy="4896000"/>
          </a:xfrm>
          <a:prstGeom prst="rect">
            <a:avLst/>
          </a:prstGeom>
          <a:solidFill>
            <a:srgbClr val="f8dd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Молекулярна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 узлах находятся молекулы. Силы притяжения слаб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ещества непрочные, легкоплавкие, летуч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Газы и жидкости в твердом состоянии, сера, иод, нафталин, белый фосфор, углекислый газ(«сухой лёд»), органические вещ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32360" y="1484280"/>
            <a:ext cx="4043520" cy="49975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Атомна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 узлах находятся атомы. Силы притяжения сильн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ещества прочные, тугоплавкие, нелетучие, не проводят электрический ток ( кроме графит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Алмаз, кремний кристаллический, бор, оксид кремния( кремнезе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250920" y="189000"/>
            <a:ext cx="86421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Атомной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ристаллической решёткой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называется решётка, в узлах которой расположены атомы, соединённые между собой прочными ковалентными связями. Такие соединения имеют большую прочность и тугоплавк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611280" y="2708280"/>
            <a:ext cx="338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кристалле алмаза атомы углерода соединены в форме тетраэдра (каркасная структур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4276800" cy="4162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"/>
          <p:cNvPicPr/>
          <p:nvPr/>
        </p:nvPicPr>
        <p:blipFill>
          <a:blip r:embed="rId2"/>
          <a:stretch/>
        </p:blipFill>
        <p:spPr>
          <a:xfrm>
            <a:off x="2928960" y="1785960"/>
            <a:ext cx="2178000" cy="114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6786720" y="1857240"/>
            <a:ext cx="2000160" cy="142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3160"/>
            <a:ext cx="8229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50920" y="189000"/>
            <a:ext cx="86421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6600"/>
                </a:solidFill>
                <a:latin typeface="Arial"/>
              </a:rPr>
              <a:t>Молекулярной  кристаллической решёткой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называется решётка, в узлах которой расположены молекулы, удерживаемые силами межмолекулярного взаимодействия . Такие соединения легко плавятся. При н.у. часто являются газами или подвижными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жидкостями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219640" y="46530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rcRect l="0" t="0" r="0" b="-100"/>
          <a:stretch/>
        </p:blipFill>
        <p:spPr>
          <a:xfrm>
            <a:off x="250920" y="2587680"/>
            <a:ext cx="4038480" cy="4270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666600"/>
                </a:solidFill>
                <a:latin typeface="Garamond"/>
              </a:rPr>
              <a:t>Фрагмент кристаллов </a:t>
            </a:r>
            <a:br>
              <a:rPr sz="4000"/>
            </a:br>
            <a:r>
              <a:rPr b="1" lang="en-GB" sz="4000" spc="-1" strike="noStrike">
                <a:solidFill>
                  <a:srgbClr val="666600"/>
                </a:solidFill>
                <a:latin typeface="Garamond"/>
              </a:rPr>
              <a:t>воды и серы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325680" cy="2494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4032360" cy="49291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5364000" y="4044960"/>
            <a:ext cx="324036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Garamond"/>
              </a:rPr>
              <a:t>Кристаллическая решётка графита –слоистое строение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113440" cy="452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171468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гибр вал орб"/>
          <p:cNvPicPr/>
          <p:nvPr/>
        </p:nvPicPr>
        <p:blipFill>
          <a:blip r:embed="rId1"/>
          <a:stretch/>
        </p:blipFill>
        <p:spPr>
          <a:xfrm>
            <a:off x="2144880" y="0"/>
            <a:ext cx="48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999900"/>
                </a:solidFill>
                <a:latin typeface="Garamond"/>
              </a:rPr>
              <a:t>Ковалентная связь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это химическая связь, возникающая между атомами за счет образования общих электронных пар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p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3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-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ибридизация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Алкан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24" name="Picture 5" descr="pic4_3_11"/>
          <p:cNvPicPr/>
          <p:nvPr/>
        </p:nvPicPr>
        <p:blipFill>
          <a:blip r:embed="rId1"/>
          <a:stretch/>
        </p:blipFill>
        <p:spPr>
          <a:xfrm>
            <a:off x="457200" y="1219320"/>
            <a:ext cx="4495680" cy="2506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pic4_3_11a"/>
          <p:cNvPicPr/>
          <p:nvPr/>
        </p:nvPicPr>
        <p:blipFill>
          <a:blip r:embed="rId2"/>
          <a:stretch/>
        </p:blipFill>
        <p:spPr>
          <a:xfrm>
            <a:off x="6715080" y="1219320"/>
            <a:ext cx="2219400" cy="2562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pic4_3_13"/>
          <p:cNvPicPr/>
          <p:nvPr/>
        </p:nvPicPr>
        <p:blipFill>
          <a:blip r:embed="rId3"/>
          <a:stretch/>
        </p:blipFill>
        <p:spPr>
          <a:xfrm>
            <a:off x="3429000" y="3886200"/>
            <a:ext cx="5562720" cy="2711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anim4_3_11"/>
          <p:cNvPicPr/>
          <p:nvPr/>
        </p:nvPicPr>
        <p:blipFill>
          <a:blip r:embed="rId4"/>
          <a:stretch/>
        </p:blipFill>
        <p:spPr>
          <a:xfrm>
            <a:off x="228600" y="3886200"/>
            <a:ext cx="28195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p</a:t>
            </a:r>
            <a:r>
              <a:rPr b="0" lang="ru-RU" sz="4000" spc="-1" strike="noStrike" baseline="30000">
                <a:solidFill>
                  <a:srgbClr val="999900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-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ибридизация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Алкен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29" name="Picture 5" descr="pic4_3_21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3160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pic4_3_23"/>
          <p:cNvPicPr/>
          <p:nvPr/>
        </p:nvPicPr>
        <p:blipFill>
          <a:blip r:embed="rId2"/>
          <a:stretch/>
        </p:blipFill>
        <p:spPr>
          <a:xfrm>
            <a:off x="4495680" y="3505320"/>
            <a:ext cx="4448160" cy="3160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anim4_3_2_1a"/>
          <p:cNvPicPr/>
          <p:nvPr/>
        </p:nvPicPr>
        <p:blipFill>
          <a:blip r:embed="rId3"/>
          <a:stretch/>
        </p:blipFill>
        <p:spPr>
          <a:xfrm>
            <a:off x="6095880" y="1447920"/>
            <a:ext cx="2210040" cy="1768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бор"/>
          <p:cNvPicPr/>
          <p:nvPr/>
        </p:nvPicPr>
        <p:blipFill>
          <a:blip r:embed="rId1"/>
          <a:stretch/>
        </p:blipFill>
        <p:spPr>
          <a:xfrm>
            <a:off x="1219320" y="1371600"/>
            <a:ext cx="6933960" cy="20494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ридизация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ые неорганически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9" descr="хлорид бора"/>
          <p:cNvPicPr/>
          <p:nvPr/>
        </p:nvPicPr>
        <p:blipFill>
          <a:blip r:embed="rId2"/>
          <a:stretch/>
        </p:blipFill>
        <p:spPr>
          <a:xfrm>
            <a:off x="2362320" y="3333600"/>
            <a:ext cx="43750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ридизация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к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pic4_3_3_1"/>
          <p:cNvPicPr/>
          <p:nvPr/>
        </p:nvPicPr>
        <p:blipFill>
          <a:blip r:embed="rId1"/>
          <a:stretch/>
        </p:blipFill>
        <p:spPr>
          <a:xfrm>
            <a:off x="152280" y="1295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pic4_3_3_3"/>
          <p:cNvPicPr/>
          <p:nvPr/>
        </p:nvPicPr>
        <p:blipFill>
          <a:blip r:embed="rId2"/>
          <a:stretch/>
        </p:blipFill>
        <p:spPr>
          <a:xfrm>
            <a:off x="5334120" y="40384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239" name="{0BED8C47-FC25-4E66-BF42-5A0CAADBFEC7}.avi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anim4_3_3_2a"/>
          <p:cNvPicPr/>
          <p:nvPr/>
        </p:nvPicPr>
        <p:blipFill>
          <a:blip r:embed="rId4"/>
          <a:stretch/>
        </p:blipFill>
        <p:spPr>
          <a:xfrm>
            <a:off x="762120" y="464832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11"/>
          <p:cNvSpPr/>
          <p:nvPr/>
        </p:nvSpPr>
        <p:spPr>
          <a:xfrm>
            <a:off x="4952880" y="31240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ридизация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ые неорганически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6" descr="бериллий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2479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хлорид бериллия"/>
          <p:cNvPicPr/>
          <p:nvPr/>
        </p:nvPicPr>
        <p:blipFill>
          <a:blip r:embed="rId2"/>
          <a:stretch/>
        </p:blipFill>
        <p:spPr>
          <a:xfrm>
            <a:off x="533520" y="4191120"/>
            <a:ext cx="788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Прямоугольник 3" descr=""/>
          <p:cNvPicPr/>
          <p:nvPr/>
        </p:nvPicPr>
        <p:blipFill>
          <a:blip r:embed="rId1"/>
          <a:stretch/>
        </p:blipFill>
        <p:spPr>
          <a:xfrm>
            <a:off x="1994040" y="79200"/>
            <a:ext cx="6235560" cy="1133640"/>
          </a:xfrm>
          <a:prstGeom prst="rect">
            <a:avLst/>
          </a:prstGeom>
          <a:ln w="0">
            <a:noFill/>
          </a:ln>
        </p:spPr>
      </p:pic>
      <p:sp>
        <p:nvSpPr>
          <p:cNvPr id="246" name="Скругленный прямоугольник 5"/>
          <p:cNvSpPr/>
          <p:nvPr/>
        </p:nvSpPr>
        <p:spPr>
          <a:xfrm>
            <a:off x="785880" y="15001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Скругленный прямоугольник 6"/>
          <p:cNvSpPr/>
          <p:nvPr/>
        </p:nvSpPr>
        <p:spPr>
          <a:xfrm>
            <a:off x="2500200" y="15001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Овал 7"/>
          <p:cNvSpPr/>
          <p:nvPr/>
        </p:nvSpPr>
        <p:spPr>
          <a:xfrm>
            <a:off x="2286000" y="164304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Овал 8"/>
          <p:cNvSpPr/>
          <p:nvPr/>
        </p:nvSpPr>
        <p:spPr>
          <a:xfrm>
            <a:off x="2286000" y="192888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0"/>
          <p:cNvSpPr/>
          <p:nvPr/>
        </p:nvSpPr>
        <p:spPr>
          <a:xfrm>
            <a:off x="4071960" y="1785960"/>
            <a:ext cx="1143000" cy="0"/>
          </a:xfrm>
          <a:prstGeom prst="line">
            <a:avLst/>
          </a:prstGeom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Скругленный прямоугольник 11"/>
          <p:cNvSpPr/>
          <p:nvPr/>
        </p:nvSpPr>
        <p:spPr>
          <a:xfrm>
            <a:off x="5572080" y="150012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валентная неполярная 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Скругленный прямоугольник 12"/>
          <p:cNvSpPr/>
          <p:nvPr/>
        </p:nvSpPr>
        <p:spPr>
          <a:xfrm>
            <a:off x="2500200" y="271476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Скругленный прямоугольник 13"/>
          <p:cNvSpPr/>
          <p:nvPr/>
        </p:nvSpPr>
        <p:spPr>
          <a:xfrm>
            <a:off x="2500200" y="385776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Овал 14"/>
          <p:cNvSpPr/>
          <p:nvPr/>
        </p:nvSpPr>
        <p:spPr>
          <a:xfrm>
            <a:off x="714240" y="2698920"/>
            <a:ext cx="1500480" cy="785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Овал 15"/>
          <p:cNvSpPr/>
          <p:nvPr/>
        </p:nvSpPr>
        <p:spPr>
          <a:xfrm>
            <a:off x="2286000" y="2857680"/>
            <a:ext cx="142920" cy="1425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Овал 16"/>
          <p:cNvSpPr/>
          <p:nvPr/>
        </p:nvSpPr>
        <p:spPr>
          <a:xfrm>
            <a:off x="2286000" y="314316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4071960" y="3000240"/>
            <a:ext cx="1143000" cy="0"/>
          </a:xfrm>
          <a:prstGeom prst="line">
            <a:avLst/>
          </a:prstGeom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18"/>
          <p:cNvSpPr/>
          <p:nvPr/>
        </p:nvSpPr>
        <p:spPr>
          <a:xfrm>
            <a:off x="5572080" y="264312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валентная полярная 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57160" y="3903840"/>
            <a:ext cx="1285920" cy="571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4071960" y="4143240"/>
            <a:ext cx="1143000" cy="0"/>
          </a:xfrm>
          <a:prstGeom prst="line">
            <a:avLst/>
          </a:prstGeom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Скругленный прямоугольник 21"/>
          <p:cNvSpPr/>
          <p:nvPr/>
        </p:nvSpPr>
        <p:spPr>
          <a:xfrm>
            <a:off x="5572080" y="378612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онная 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люс 25"/>
          <p:cNvSpPr/>
          <p:nvPr/>
        </p:nvSpPr>
        <p:spPr>
          <a:xfrm>
            <a:off x="1857240" y="3929040"/>
            <a:ext cx="214560" cy="2142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инус 26"/>
          <p:cNvSpPr/>
          <p:nvPr/>
        </p:nvSpPr>
        <p:spPr>
          <a:xfrm>
            <a:off x="3571920" y="4000680"/>
            <a:ext cx="285840" cy="7128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кругленный прямоугольник 27"/>
          <p:cNvSpPr/>
          <p:nvPr/>
        </p:nvSpPr>
        <p:spPr>
          <a:xfrm>
            <a:off x="714240" y="4929120"/>
            <a:ext cx="82155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онная связь – это связь между ион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разуется  между металлом и неметал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29"/>
          <p:cNvSpPr/>
          <p:nvPr/>
        </p:nvSpPr>
        <p:spPr>
          <a:xfrm>
            <a:off x="2286000" y="2984400"/>
            <a:ext cx="457200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ица, отдающая электро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вращается  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и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и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Скругленный прямоугольник 83"/>
          <p:cNvSpPr/>
          <p:nvPr/>
        </p:nvSpPr>
        <p:spPr>
          <a:xfrm>
            <a:off x="1214280" y="357120"/>
            <a:ext cx="7072560" cy="164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ица, отдающая электрон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вращается  в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ый и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тио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Скругленный прямоугольник 89"/>
          <p:cNvSpPr/>
          <p:nvPr/>
        </p:nvSpPr>
        <p:spPr>
          <a:xfrm>
            <a:off x="1285920" y="2357280"/>
            <a:ext cx="7000920" cy="164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ица, принимающая электрон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вращается  в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рицательный ион (анион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diamond_01_small"/>
          <p:cNvPicPr/>
          <p:nvPr/>
        </p:nvPicPr>
        <p:blipFill>
          <a:blip r:embed="rId1"/>
          <a:stretch/>
        </p:blipFill>
        <p:spPr>
          <a:xfrm>
            <a:off x="357120" y="4143240"/>
            <a:ext cx="3909960" cy="2357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berill_01_small"/>
          <p:cNvPicPr/>
          <p:nvPr/>
        </p:nvPicPr>
        <p:blipFill>
          <a:blip r:embed="rId2"/>
          <a:stretch/>
        </p:blipFill>
        <p:spPr>
          <a:xfrm>
            <a:off x="4714920" y="4214880"/>
            <a:ext cx="42004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999900"/>
                </a:solidFill>
                <a:latin typeface="Garamond"/>
              </a:rPr>
              <a:t>Классификация КС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999900"/>
                </a:solidFill>
                <a:latin typeface="Verdana"/>
              </a:rPr>
              <a:t>1. По механизму образ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95280" y="2643120"/>
            <a:ext cx="3384720" cy="3263400"/>
          </a:xfrm>
          <a:prstGeom prst="rect">
            <a:avLst/>
          </a:prstGeom>
          <a:solidFill>
            <a:srgbClr val="f8dd68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Обменный мех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Каждый из атом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предоставляет неспаре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 неспаренные) электроны для образования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924360" y="2643120"/>
            <a:ext cx="5219640" cy="2876400"/>
          </a:xfrm>
          <a:prstGeom prst="rect">
            <a:avLst/>
          </a:prstGeom>
          <a:solidFill>
            <a:srgbClr val="cccc66"/>
          </a:solidFill>
          <a:ln w="93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00cc"/>
                </a:solidFill>
                <a:latin typeface="Verdana"/>
              </a:rPr>
              <a:t>Донорно-акцепторный меха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Донор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предоставляет общую электронную пару, </a:t>
            </a:r>
            <a:r>
              <a:rPr b="0" lang="en-GB" sz="2400" spc="-1" strike="noStrike">
                <a:solidFill>
                  <a:srgbClr val="cc0000"/>
                </a:solidFill>
                <a:latin typeface="Verdana"/>
              </a:rPr>
              <a:t>акцептор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предоставляет свободную электронную орбиталь,которую эта пара может зан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Garamond"/>
              </a:rPr>
              <a:t>Донорно-акцепторный механиз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20720" y="1859040"/>
            <a:ext cx="8101080" cy="1741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720720" y="4500720"/>
            <a:ext cx="792000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Garamond"/>
              </a:rPr>
              <a:t>Донорно-акцепторный механиз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425080" cy="2500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1079640" y="4140360"/>
            <a:ext cx="691200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71280"/>
            <a:ext cx="849636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666600"/>
                </a:solidFill>
                <a:latin typeface="Garamond"/>
              </a:rPr>
              <a:t>Образование молекулы водород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677960"/>
            <a:ext cx="7056360" cy="5180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4038840" cy="17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990720" y="3048120"/>
            <a:ext cx="7315200" cy="21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5257800" y="3200400"/>
            <a:ext cx="28954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990720" y="533520"/>
            <a:ext cx="6703920" cy="1293840"/>
            <a:chOff x="990720" y="533520"/>
            <a:chExt cx="6703920" cy="1293840"/>
          </a:xfrm>
        </p:grpSpPr>
        <p:grpSp>
          <p:nvGrpSpPr>
            <p:cNvPr id="119" name="Group 4"/>
            <p:cNvGrpSpPr/>
            <p:nvPr/>
          </p:nvGrpSpPr>
          <p:grpSpPr>
            <a:xfrm>
              <a:off x="990720" y="533520"/>
              <a:ext cx="1293840" cy="1293840"/>
              <a:chOff x="990720" y="533520"/>
              <a:chExt cx="1293840" cy="1293840"/>
            </a:xfrm>
          </p:grpSpPr>
          <p:sp>
            <p:nvSpPr>
              <p:cNvPr id="120" name="Oval 5"/>
              <p:cNvSpPr/>
              <p:nvPr/>
            </p:nvSpPr>
            <p:spPr>
              <a:xfrm>
                <a:off x="990720" y="533520"/>
                <a:ext cx="1293840" cy="12938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64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Group 6"/>
              <p:cNvGrpSpPr/>
              <p:nvPr/>
            </p:nvGrpSpPr>
            <p:grpSpPr>
              <a:xfrm>
                <a:off x="1517040" y="1065600"/>
                <a:ext cx="213840" cy="214200"/>
                <a:chOff x="1517040" y="1065600"/>
                <a:chExt cx="213840" cy="214200"/>
              </a:xfrm>
            </p:grpSpPr>
            <p:sp>
              <p:nvSpPr>
                <p:cNvPr id="122" name="Line 7"/>
                <p:cNvSpPr/>
                <p:nvPr/>
              </p:nvSpPr>
              <p:spPr>
                <a:xfrm>
                  <a:off x="1517040" y="1172880"/>
                  <a:ext cx="21384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Line 8"/>
                <p:cNvSpPr/>
                <p:nvPr/>
              </p:nvSpPr>
              <p:spPr>
                <a:xfrm flipV="1">
                  <a:off x="1604880" y="1065600"/>
                  <a:ext cx="1080" cy="214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Group 9"/>
            <p:cNvGrpSpPr/>
            <p:nvPr/>
          </p:nvGrpSpPr>
          <p:grpSpPr>
            <a:xfrm>
              <a:off x="3200400" y="533520"/>
              <a:ext cx="1293840" cy="1293840"/>
              <a:chOff x="3200400" y="533520"/>
              <a:chExt cx="1293840" cy="129384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3200400" y="533520"/>
                <a:ext cx="1293840" cy="12938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64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6" name="Group 11"/>
              <p:cNvGrpSpPr/>
              <p:nvPr/>
            </p:nvGrpSpPr>
            <p:grpSpPr>
              <a:xfrm>
                <a:off x="3726720" y="1065600"/>
                <a:ext cx="213840" cy="214200"/>
                <a:chOff x="3726720" y="1065600"/>
                <a:chExt cx="213840" cy="214200"/>
              </a:xfrm>
            </p:grpSpPr>
            <p:sp>
              <p:nvSpPr>
                <p:cNvPr id="127" name="Line 12"/>
                <p:cNvSpPr/>
                <p:nvPr/>
              </p:nvSpPr>
              <p:spPr>
                <a:xfrm>
                  <a:off x="3726720" y="1172880"/>
                  <a:ext cx="21384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3"/>
                <p:cNvSpPr/>
                <p:nvPr/>
              </p:nvSpPr>
              <p:spPr>
                <a:xfrm flipV="1">
                  <a:off x="3814560" y="1065600"/>
                  <a:ext cx="1080" cy="214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Group 14"/>
            <p:cNvGrpSpPr/>
            <p:nvPr/>
          </p:nvGrpSpPr>
          <p:grpSpPr>
            <a:xfrm>
              <a:off x="5410080" y="533520"/>
              <a:ext cx="2284560" cy="1293840"/>
              <a:chOff x="5410080" y="533520"/>
              <a:chExt cx="2284560" cy="1293840"/>
            </a:xfrm>
          </p:grpSpPr>
          <p:grpSp>
            <p:nvGrpSpPr>
              <p:cNvPr id="130" name="Group 15"/>
              <p:cNvGrpSpPr/>
              <p:nvPr/>
            </p:nvGrpSpPr>
            <p:grpSpPr>
              <a:xfrm>
                <a:off x="6400800" y="533520"/>
                <a:ext cx="1293840" cy="1293840"/>
                <a:chOff x="6400800" y="533520"/>
                <a:chExt cx="1293840" cy="1293840"/>
              </a:xfrm>
            </p:grpSpPr>
            <p:sp>
              <p:nvSpPr>
                <p:cNvPr id="131" name="Oval 16"/>
                <p:cNvSpPr/>
                <p:nvPr/>
              </p:nvSpPr>
              <p:spPr>
                <a:xfrm>
                  <a:off x="6400800" y="533520"/>
                  <a:ext cx="1293840" cy="129384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64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Group 17"/>
                <p:cNvGrpSpPr/>
                <p:nvPr/>
              </p:nvGrpSpPr>
              <p:grpSpPr>
                <a:xfrm>
                  <a:off x="6927120" y="1065600"/>
                  <a:ext cx="213840" cy="214200"/>
                  <a:chOff x="6927120" y="1065600"/>
                  <a:chExt cx="213840" cy="214200"/>
                </a:xfrm>
              </p:grpSpPr>
              <p:sp>
                <p:nvSpPr>
                  <p:cNvPr id="133" name="Line 18"/>
                  <p:cNvSpPr/>
                  <p:nvPr/>
                </p:nvSpPr>
                <p:spPr>
                  <a:xfrm>
                    <a:off x="6927120" y="1172880"/>
                    <a:ext cx="213840" cy="14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19"/>
                  <p:cNvSpPr/>
                  <p:nvPr/>
                </p:nvSpPr>
                <p:spPr>
                  <a:xfrm flipV="1">
                    <a:off x="7014960" y="1065600"/>
                    <a:ext cx="1080" cy="214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" name="Group 20"/>
              <p:cNvGrpSpPr/>
              <p:nvPr/>
            </p:nvGrpSpPr>
            <p:grpSpPr>
              <a:xfrm>
                <a:off x="5410080" y="533520"/>
                <a:ext cx="1293840" cy="1293840"/>
                <a:chOff x="5410080" y="533520"/>
                <a:chExt cx="1293840" cy="1293840"/>
              </a:xfrm>
            </p:grpSpPr>
            <p:sp>
              <p:nvSpPr>
                <p:cNvPr id="136" name="Oval 21"/>
                <p:cNvSpPr/>
                <p:nvPr/>
              </p:nvSpPr>
              <p:spPr>
                <a:xfrm>
                  <a:off x="5410080" y="533520"/>
                  <a:ext cx="1293840" cy="129384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64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Group 22"/>
                <p:cNvGrpSpPr/>
                <p:nvPr/>
              </p:nvGrpSpPr>
              <p:grpSpPr>
                <a:xfrm>
                  <a:off x="5936040" y="1065600"/>
                  <a:ext cx="214200" cy="214200"/>
                  <a:chOff x="5936040" y="1065600"/>
                  <a:chExt cx="214200" cy="214200"/>
                </a:xfrm>
              </p:grpSpPr>
              <p:sp>
                <p:nvSpPr>
                  <p:cNvPr id="138" name="Line 23"/>
                  <p:cNvSpPr/>
                  <p:nvPr/>
                </p:nvSpPr>
                <p:spPr>
                  <a:xfrm>
                    <a:off x="5936040" y="1172880"/>
                    <a:ext cx="214200" cy="14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24"/>
                  <p:cNvSpPr/>
                  <p:nvPr/>
                </p:nvSpPr>
                <p:spPr>
                  <a:xfrm flipV="1">
                    <a:off x="6023880" y="1065600"/>
                    <a:ext cx="1440" cy="214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0" name="Text Box 25"/>
            <p:cNvSpPr/>
            <p:nvPr/>
          </p:nvSpPr>
          <p:spPr>
            <a:xfrm>
              <a:off x="2438280" y="76212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26"/>
            <p:cNvSpPr/>
            <p:nvPr/>
          </p:nvSpPr>
          <p:spPr>
            <a:xfrm>
              <a:off x="4572000" y="685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114300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8"/>
          <p:cNvSpPr/>
          <p:nvPr/>
        </p:nvSpPr>
        <p:spPr>
          <a:xfrm>
            <a:off x="1913040" y="412272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2514600" y="3809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3581280" y="3718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31"/>
          <p:cNvSpPr/>
          <p:nvPr/>
        </p:nvSpPr>
        <p:spPr>
          <a:xfrm>
            <a:off x="3360600" y="412272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4495680" y="373392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600880" y="36417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6858000" y="36417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5"/>
          <p:cNvGrpSpPr/>
          <p:nvPr/>
        </p:nvGrpSpPr>
        <p:grpSpPr>
          <a:xfrm>
            <a:off x="6550200" y="3981600"/>
            <a:ext cx="153360" cy="360000"/>
            <a:chOff x="6550200" y="3981600"/>
            <a:chExt cx="153360" cy="360000"/>
          </a:xfrm>
        </p:grpSpPr>
        <p:sp>
          <p:nvSpPr>
            <p:cNvPr id="151" name="Oval 36"/>
            <p:cNvSpPr/>
            <p:nvPr/>
          </p:nvSpPr>
          <p:spPr>
            <a:xfrm>
              <a:off x="6550200" y="3981600"/>
              <a:ext cx="142560" cy="143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6560640" y="4197960"/>
              <a:ext cx="142920" cy="143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 Box 38"/>
          <p:cNvSpPr/>
          <p:nvPr/>
        </p:nvSpPr>
        <p:spPr>
          <a:xfrm>
            <a:off x="5315040" y="32907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7467480" y="3290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0"/>
          <p:cNvSpPr/>
          <p:nvPr/>
        </p:nvSpPr>
        <p:spPr>
          <a:xfrm>
            <a:off x="6610320" y="2971800"/>
            <a:ext cx="1440" cy="60948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3344760" y="1844640"/>
            <a:ext cx="57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Times New Roman"/>
              </a:rPr>
              <a:t>одна общая электронная пара – одна химическ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2"/>
          <p:cNvSpPr/>
          <p:nvPr/>
        </p:nvSpPr>
        <p:spPr>
          <a:xfrm>
            <a:off x="5334120" y="533412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ff"/>
                </a:solidFill>
                <a:latin typeface="Times New Roman"/>
              </a:rPr>
              <a:t>электронная формула 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914400" y="53341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00cc"/>
                </a:solidFill>
                <a:latin typeface="Times New Roman"/>
              </a:rPr>
              <a:t>электронная схема образования 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4"/>
          <p:cNvSpPr/>
          <p:nvPr/>
        </p:nvSpPr>
        <p:spPr>
          <a:xfrm>
            <a:off x="5195880" y="3429000"/>
            <a:ext cx="1700280" cy="1447920"/>
          </a:xfrm>
          <a:prstGeom prst="pi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5"/>
          <p:cNvSpPr/>
          <p:nvPr/>
        </p:nvSpPr>
        <p:spPr>
          <a:xfrm flipH="1">
            <a:off x="6373080" y="3429000"/>
            <a:ext cx="1700280" cy="1447920"/>
          </a:xfrm>
          <a:prstGeom prst="pi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6"/>
          <p:cNvSpPr/>
          <p:nvPr/>
        </p:nvSpPr>
        <p:spPr>
          <a:xfrm>
            <a:off x="5292720" y="3284640"/>
            <a:ext cx="457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7"/>
          <p:cNvSpPr/>
          <p:nvPr/>
        </p:nvSpPr>
        <p:spPr>
          <a:xfrm>
            <a:off x="7524720" y="3357720"/>
            <a:ext cx="457200" cy="457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48"/>
          <p:cNvSpPr/>
          <p:nvPr/>
        </p:nvSpPr>
        <p:spPr>
          <a:xfrm>
            <a:off x="1447920" y="1009800"/>
            <a:ext cx="323640" cy="323640"/>
          </a:xfrm>
          <a:prstGeom prst="pie">
            <a:avLst/>
          </a:prstGeom>
          <a:noFill/>
          <a:ln w="1908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49"/>
          <p:cNvSpPr/>
          <p:nvPr/>
        </p:nvSpPr>
        <p:spPr>
          <a:xfrm>
            <a:off x="3657600" y="1009800"/>
            <a:ext cx="324000" cy="323640"/>
          </a:xfrm>
          <a:prstGeom prst="pie">
            <a:avLst/>
          </a:prstGeom>
          <a:noFill/>
          <a:ln w="1908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5867280" y="1009800"/>
            <a:ext cx="324000" cy="323640"/>
          </a:xfrm>
          <a:prstGeom prst="pie">
            <a:avLst/>
          </a:prstGeom>
          <a:noFill/>
          <a:ln w="1908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1"/>
          <p:cNvSpPr/>
          <p:nvPr/>
        </p:nvSpPr>
        <p:spPr>
          <a:xfrm>
            <a:off x="6858000" y="1009800"/>
            <a:ext cx="324000" cy="32364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2. По степени смещения общей электронной пар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103640" cy="3384360"/>
          </a:xfrm>
          <a:prstGeom prst="rect">
            <a:avLst/>
          </a:prstGeom>
          <a:solidFill>
            <a:srgbClr val="cccc66"/>
          </a:solidFill>
          <a:ln w="9360">
            <a:solidFill>
              <a:srgbClr val="cccc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Ковалентная </a:t>
            </a: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неполярная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связь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– общая электронная пара принадлежит обоим атомам в равной степен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0720" y="1593360"/>
            <a:ext cx="4451040" cy="380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Ковалентная </a:t>
            </a: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полярная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связь –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общая электронная пара смещ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к более электроотрицательному атом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500720" y="4859280"/>
            <a:ext cx="4390920" cy="1440000"/>
            <a:chOff x="4500720" y="4859280"/>
            <a:chExt cx="4390920" cy="1440000"/>
          </a:xfrm>
        </p:grpSpPr>
        <p:pic>
          <p:nvPicPr>
            <p:cNvPr id="171" name="Picture 5" descr=""/>
            <p:cNvPicPr/>
            <p:nvPr/>
          </p:nvPicPr>
          <p:blipFill>
            <a:blip r:embed="rId1"/>
            <a:stretch/>
          </p:blipFill>
          <p:spPr>
            <a:xfrm>
              <a:off x="4500720" y="4859280"/>
              <a:ext cx="4390920" cy="1438560"/>
            </a:xfrm>
            <a:prstGeom prst="rect">
              <a:avLst/>
            </a:prstGeom>
            <a:ln w="9360">
              <a:solidFill>
                <a:srgbClr val="cccc66"/>
              </a:solidFill>
              <a:miter/>
            </a:ln>
          </p:spPr>
        </p:pic>
        <p:sp>
          <p:nvSpPr>
            <p:cNvPr id="172" name="Text Box 6"/>
            <p:cNvSpPr/>
            <p:nvPr/>
          </p:nvSpPr>
          <p:spPr>
            <a:xfrm>
              <a:off x="4500720" y="4859280"/>
              <a:ext cx="43909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360360" y="4859280"/>
            <a:ext cx="4030560" cy="1865520"/>
            <a:chOff x="360360" y="4859280"/>
            <a:chExt cx="4030560" cy="1865520"/>
          </a:xfrm>
        </p:grpSpPr>
        <p:pic>
          <p:nvPicPr>
            <p:cNvPr id="174" name="Picture 8" descr=""/>
            <p:cNvPicPr/>
            <p:nvPr/>
          </p:nvPicPr>
          <p:blipFill>
            <a:blip r:embed="rId2"/>
            <a:stretch/>
          </p:blipFill>
          <p:spPr>
            <a:xfrm>
              <a:off x="360360" y="4859280"/>
              <a:ext cx="4030560" cy="1864080"/>
            </a:xfrm>
            <a:prstGeom prst="rect">
              <a:avLst/>
            </a:prstGeom>
            <a:ln w="9360">
              <a:solidFill>
                <a:srgbClr val="999900"/>
              </a:solidFill>
              <a:miter/>
            </a:ln>
          </p:spPr>
        </p:pic>
        <p:sp>
          <p:nvSpPr>
            <p:cNvPr id="175" name="Text Box 9"/>
            <p:cNvSpPr/>
            <p:nvPr/>
          </p:nvSpPr>
          <p:spPr>
            <a:xfrm>
              <a:off x="360360" y="4859280"/>
              <a:ext cx="4030560" cy="18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AutoShape 10"/>
          <p:cNvSpPr/>
          <p:nvPr/>
        </p:nvSpPr>
        <p:spPr>
          <a:xfrm flipH="1" rot="21540000">
            <a:off x="8027640" y="4933440"/>
            <a:ext cx="1685880" cy="1449360"/>
          </a:xfrm>
          <a:prstGeom prst="pi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Admin</cp:lastModifiedBy>
  <dcterms:modified xsi:type="dcterms:W3CDTF">2012-12-18T12:53:14Z</dcterms:modified>
  <cp:revision>6</cp:revision>
  <dc:subject/>
  <dc:title>Химическая связ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d0000000000010250300207f7000400038000</vt:lpwstr>
  </property>
</Properties>
</file>